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B18F0-56EA-4FF8-A8F8-09485F6973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AFB02-BA79-4A0D-BD95-DDA685ED0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4FDE9-9884-43E7-917D-CB4033AE9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7E50D-DF45-4811-B41A-525109F89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E608BE-6BF6-4FC3-A6BD-A1F3BCABA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7180C0-9591-4CE9-B9AB-B949A0273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93E32-B126-47AF-B24C-CDF9B8109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69166-3CA3-43E7-A1E8-A5A93DDC7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ECFFA-4D46-429C-BE22-07EC69B35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1D284-59FD-467A-832E-43E7A9C31A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8020-5976-44D6-97E8-0809653AE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363F9-4550-4CA8-A764-8C149C134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438C3-51BC-4142-8142-CBFA52288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7A97D-FE44-4E9B-8A92-1DD2FC0C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B52410-28A2-406F-9785-E8C41E26D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04BC3-B823-40F8-8313-23BDC9EA7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C2BDC-12D0-4CC5-93A8-D72EA0960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D3988C-C697-4769-976E-9A15727306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9C6186-D356-47AE-B745-FD14E8CB2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5619E5-7D40-4CCB-ADBC-075988FD1D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15175-5608-437A-8D73-C8A2B6D391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248194-1D90-4F11-908D-9F01680B7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E0B2C-030C-4603-9599-3446D8901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059B3-595F-454F-8190-B05D9C14C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2523B-DD0F-431B-836B-515E3DA7E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775B6-13B0-4F54-9669-E9C0A9D756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B8970-8343-41B1-B3E8-A6D037860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B7792-E484-462A-AEB1-5A648EE48B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419286-6418-4407-977A-DE572E97FA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A771C9-0623-471A-A14F-FD1C80457E8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F919DF-666C-4F3C-8601-CEFB7F9E17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7EB33-C60D-419E-A9FB-358CCF67F1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B4335E-A89C-4955-9B28-1FDDDEAC4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3E426-1689-4116-9B93-BC4A856E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5A5B0-671F-4CA0-B8A9-7F8459DD09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A63954-6E15-4334-8AB0-A56DB0FF17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77B636-AA83-44EC-A98C-D9E5EA7A81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BA0D5-447F-4CE8-B453-109947FD83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2349F-D0E9-4923-AD1E-5BFA6016E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A0CC01-3140-4892-B539-E8851D2E9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A1DABF-5423-4E43-ADD5-80BF8D0EA8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77AE4C-EF0F-48D1-969D-F912D65FF2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B46A28-53DD-4C54-ABC2-13B96A2307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65EF4-0915-4124-91C7-6C7A940FD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4259B-C33A-48BA-B43B-8BD3B1E71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F88FB-E4B0-4173-9D50-06828472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975B1-7542-49DE-8B95-98536628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90B0-A213-4A7F-B25B-C288B623E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A69C-B54D-4D3E-89CC-8366E9F4384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06D8C-251A-4189-9A7E-718044CE930D}"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FB84-AE22-49F9-8151-6B6B5694EAF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04FD-E0DD-4F08-8C4A-1FEFF254AB2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2" descr=""/>
          <p:cNvPicPr/>
          <p:nvPr/>
        </p:nvPicPr>
        <p:blipFill>
          <a:blip r:embed="rId2"/>
          <a:stretch/>
        </p:blipFill>
        <p:spPr>
          <a:xfrm>
            <a:off x="407880" y="1365120"/>
            <a:ext cx="8150400" cy="2011320"/>
          </a:xfrm>
          <a:prstGeom prst="rect">
            <a:avLst/>
          </a:prstGeom>
          <a:ln w="0">
            <a:noFill/>
          </a:ln>
        </p:spPr>
      </p:pic>
      <p:sp>
        <p:nvSpPr>
          <p:cNvPr id="196" name="PlaceHolder 1"/>
          <p:cNvSpPr>
            <a:spLocks noGrp="1"/>
          </p:cNvSpPr>
          <p:nvPr>
            <p:ph type="subTitle"/>
          </p:nvPr>
        </p:nvSpPr>
        <p:spPr>
          <a:xfrm>
            <a:off x="1371600" y="4114800"/>
            <a:ext cx="6400800" cy="1752480"/>
          </a:xfrm>
          <a:prstGeom prst="rect">
            <a:avLst/>
          </a:prstGeom>
          <a:noFill/>
          <a:ln w="0">
            <a:noFill/>
          </a:ln>
        </p:spPr>
        <p:txBody>
          <a:bodyPr lIns="0" rIns="1836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Portfolio Presentation</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daya, Christilene Belle A.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d Llera, Cindy Lee N.</a:t>
            </a:r>
            <a:endParaRPr b="0" lang="en-US" sz="3200" spc="-1" strike="noStrike">
              <a:solidFill>
                <a:srgbClr val="ffffff"/>
              </a:solidFill>
              <a:latin typeface="Constant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Unit Summary</a:t>
            </a:r>
            <a:endParaRPr b="0" lang="en-US" sz="5000" spc="-1" strike="noStrike">
              <a:solidFill>
                <a:srgbClr val="04617b"/>
              </a:solidFill>
              <a:latin typeface="Calibri"/>
            </a:endParaRPr>
          </a:p>
        </p:txBody>
      </p:sp>
      <p:sp>
        <p:nvSpPr>
          <p:cNvPr id="198" name=""/>
          <p:cNvSpPr txBox="1"/>
          <p:nvPr/>
        </p:nvSpPr>
        <p:spPr>
          <a:xfrm>
            <a:off x="228240" y="1934640"/>
            <a:ext cx="8458200" cy="4389480"/>
          </a:xfrm>
          <a:prstGeom prst="rect">
            <a:avLst/>
          </a:prstGeom>
          <a:noFill/>
          <a:ln w="0">
            <a:noFill/>
          </a:ln>
        </p:spPr>
        <p:txBody>
          <a:bodyPr lIns="90000" rIns="90000" tIns="46800" bIns="46800" anchor="t">
            <a:normAutofit/>
          </a:bodyPr>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Information is everywhere. This module will teach students to become socially aware of what is going on around the society through opening their minds to the vast world of journalism. Also this module will help develop the critical thinking and sound judgment of the students. This is done by exposing them to various issues and current events.</a:t>
            </a:r>
            <a:endParaRPr b="0" lang="en-US" sz="28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5811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500" spc="-1" strike="noStrike">
                <a:solidFill>
                  <a:srgbClr val="04617b"/>
                </a:solidFill>
                <a:latin typeface="Arial"/>
                <a:ea typeface="Arial"/>
              </a:rPr>
              <a:t>Curriculum-Framing Questions</a:t>
            </a:r>
            <a:endParaRPr b="0" lang="en-US" sz="4500" spc="-1" strike="noStrike">
              <a:solidFill>
                <a:srgbClr val="04617b"/>
              </a:solidFill>
              <a:latin typeface="Calibri"/>
            </a:endParaRPr>
          </a:p>
        </p:txBody>
      </p:sp>
      <p:sp>
        <p:nvSpPr>
          <p:cNvPr id="200" name=""/>
          <p:cNvSpPr txBox="1"/>
          <p:nvPr/>
        </p:nvSpPr>
        <p:spPr>
          <a:xfrm>
            <a:off x="304920" y="1828800"/>
            <a:ext cx="8610480" cy="4525920"/>
          </a:xfrm>
          <a:prstGeom prst="rect">
            <a:avLst/>
          </a:prstGeom>
          <a:noFill/>
          <a:ln w="0">
            <a:noFill/>
          </a:ln>
        </p:spPr>
        <p:txBody>
          <a:bodyPr lIns="90000" rIns="90000" tIns="46800" bIns="46800"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Question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nformation a source of power</a:t>
            </a:r>
            <a:r>
              <a:rPr b="0" lang="en-US" sz="2600" spc="-1" strike="noStrike">
                <a:solidFill>
                  <a:srgbClr val="000000"/>
                </a:solidFill>
                <a:latin typeface="Constantia"/>
              </a:rPr>
              <a:t> </a:t>
            </a:r>
            <a:r>
              <a:rPr b="0" lang="en-US" sz="3200" spc="-1" strike="noStrike">
                <a:solidFill>
                  <a:srgbClr val="000000"/>
                </a:solidFill>
                <a:latin typeface="Arial"/>
                <a:ea typeface="Arial"/>
              </a:rPr>
              <a:t>?</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Unit Question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is information important in your lif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has information changed you?</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13712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tent Questions</a:t>
            </a:r>
            <a:endParaRPr b="0" lang="en-US" sz="2800" spc="-1" strike="noStrike">
              <a:solidFill>
                <a:srgbClr val="000000"/>
              </a:solidFill>
              <a:latin typeface="Constanti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What is journalism and its role in society?</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elements of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is the Code of Ethics in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various forms of writing news?</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different parts of a newspaper?</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914040"/>
            <a:ext cx="8229600" cy="2057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This project will help my students develop 21</a:t>
            </a:r>
            <a:r>
              <a:rPr b="0" lang="en-US" sz="4400" spc="-1" strike="noStrike" baseline="30000">
                <a:solidFill>
                  <a:srgbClr val="04617b"/>
                </a:solidFill>
                <a:latin typeface="Arial"/>
                <a:ea typeface="Arial"/>
              </a:rPr>
              <a:t>st</a:t>
            </a:r>
            <a:r>
              <a:rPr b="0" lang="en-US" sz="4400" spc="-1" strike="noStrike">
                <a:solidFill>
                  <a:srgbClr val="04617b"/>
                </a:solidFill>
                <a:latin typeface="Arial"/>
                <a:ea typeface="Arial"/>
              </a:rPr>
              <a:t> century skills by:</a:t>
            </a:r>
            <a:br>
              <a:rPr sz="4900"/>
            </a:br>
            <a:endParaRPr b="0" lang="en-US" sz="4400" spc="-1" strike="noStrike">
              <a:solidFill>
                <a:srgbClr val="04617b"/>
              </a:solidFill>
              <a:latin typeface="Calibri"/>
            </a:endParaRPr>
          </a:p>
        </p:txBody>
      </p:sp>
      <p:sp>
        <p:nvSpPr>
          <p:cNvPr id="203" name=""/>
          <p:cNvSpPr txBox="1"/>
          <p:nvPr/>
        </p:nvSpPr>
        <p:spPr>
          <a:xfrm>
            <a:off x="380880" y="2514240"/>
            <a:ext cx="8305920" cy="380988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ing their own newspaper dummy.</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alyzing received information and try to find solutions to various problem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aborating with peer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 information accurately to create their own new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ing an active role in the society.</a:t>
            </a:r>
            <a:endParaRPr b="0" lang="en-US" sz="24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Gauging Student Needs Assessment</a:t>
            </a:r>
            <a:endParaRPr b="0" lang="en-US" sz="4400" spc="-1" strike="noStrike">
              <a:solidFill>
                <a:srgbClr val="04617b"/>
              </a:solidFill>
              <a:latin typeface="Calibri"/>
            </a:endParaRPr>
          </a:p>
        </p:txBody>
      </p:sp>
      <p:sp>
        <p:nvSpPr>
          <p:cNvPr id="205" name=""/>
          <p:cNvSpPr txBox="1"/>
          <p:nvPr/>
        </p:nvSpPr>
        <p:spPr>
          <a:xfrm>
            <a:off x="304920" y="1934640"/>
            <a:ext cx="853416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 will use my </a:t>
            </a:r>
            <a:r>
              <a:rPr b="0" lang="en-US" sz="2800" spc="-1" strike="noStrike">
                <a:solidFill>
                  <a:srgbClr val="000000"/>
                </a:solidFill>
                <a:latin typeface="Arial"/>
                <a:ea typeface="Arial"/>
              </a:rPr>
              <a:t>Essential Question and Unit Questions</a:t>
            </a:r>
            <a:r>
              <a:rPr b="0" lang="en-US" sz="2600" spc="-1" strike="noStrike">
                <a:solidFill>
                  <a:srgbClr val="000000"/>
                </a:solidFill>
                <a:latin typeface="Arial"/>
                <a:ea typeface="Arial"/>
              </a:rPr>
              <a:t> to help students realize the importance of information, responsible journalism and relying news to others correctly.</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ir project, the newspaper dummy, will help me measure how well they have learned about journalism and how engrossed they are with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My Goals for the Course</a:t>
            </a:r>
            <a:endParaRPr b="0" lang="en-US" sz="44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make students interested in learning about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ppreciate the importance of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help students develop higher order thinking skill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als for My Student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make the students become a problem solver in their own ways to various issue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come critical of the information they receive everyda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 independent yet collaborative learners.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 for Feedback</a:t>
            </a:r>
            <a:endParaRPr b="0" lang="en-US" sz="5000" spc="-1" strike="noStrike">
              <a:solidFill>
                <a:srgbClr val="04617b"/>
              </a:solidFill>
              <a:latin typeface="Calibri"/>
            </a:endParaRPr>
          </a:p>
        </p:txBody>
      </p:sp>
      <p:sp>
        <p:nvSpPr>
          <p:cNvPr id="211" name=""/>
          <p:cNvSpPr txBox="1"/>
          <p:nvPr/>
        </p:nvSpPr>
        <p:spPr>
          <a:xfrm>
            <a:off x="380880" y="20570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deas for motivating my students to become more engrossed in listen and reading to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re ideas on how to further improve their thinking skil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vite journalist to visit and give little lectures.</a:t>
            </a:r>
            <a:endParaRPr b="0" lang="en-US" sz="2600" spc="-1" strike="noStrike">
              <a:solidFill>
                <a:srgbClr val="000000"/>
              </a:solidFill>
              <a:latin typeface="Constant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31:10Z</dcterms:created>
  <dc:creator>nave1386</dc:creator>
  <dc:description/>
  <dc:language>en-US</dc:language>
  <cp:lastModifiedBy>nave1386</cp:lastModifiedBy>
  <dcterms:modified xsi:type="dcterms:W3CDTF">2010-09-20T21:32:25Z</dcterms:modified>
  <cp:revision>7</cp:revision>
  <dc:subject/>
  <dc:title>Journalism: Window to a Wider Horizon </dc:title>
</cp:coreProperties>
</file>